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10.jpeg" ContentType="image/jpeg"/>
  <Override PartName="/ppt/media/image13.wmf" ContentType="image/x-wmf"/>
  <Override PartName="/ppt/media/image12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gif" ContentType="image/gif"/>
  <Override PartName="/ppt/media/image8.wmf" ContentType="image/x-wmf"/>
  <Override PartName="/ppt/media/image6.png" ContentType="image/png"/>
  <Override PartName="/ppt/media/oh_yeah.wav" ContentType="audio/x-wav"/>
  <Override PartName="/ppt/media/this_is_the_end_x.wav" ContentType="audio/x-wav"/>
  <Override PartName="/ppt/media/image7.gif" ContentType="image/gif"/>
  <Override PartName="/ppt/media/applause.wav" ContentType="audio/x-wav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B3E6-BB28-49D7-9BB6-95CE00D45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32EA-191C-460E-9F65-95AFFBF52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7937-BA5A-4481-B3D6-FE5F12C85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F0C7-91C3-4D02-88FC-EA9E2EC88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B31AD-C49F-4E3B-A946-1C25857C6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73382-6CFA-4558-B914-D592B434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64699-3A8E-4CC9-9968-51B46BD48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BF466-9419-4D7F-B1B8-024E57146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BE7E4-6752-4021-B02D-598B73989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F2E5E-C7CF-436B-89FA-7D458A2A4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C21DB-5E39-453C-8CBF-9D7ED3F6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D769-47E9-4669-AC29-354A369F3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9F3ED-1F33-4BD9-8767-B3E427BE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23DA4-5EF1-4A62-885F-DF7424C0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A4D3B-241F-4C53-A2B5-780103A2F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4514C-1D53-4EA4-A375-F5B2E03E9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4D905-D6D5-4382-BF0B-93215376C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EBCA-5934-4C7A-B775-C3F3F0470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F200-2316-4C36-AF8A-B7EED4A64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7525-9CFE-4173-92A6-886B34110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8587-9CF1-4F4F-A3A7-93CC3530F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B5F4-B27D-40C8-B41C-01B12150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83C1-63FA-49D6-B14F-047DF0AB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F7E4-CEB0-4330-A53B-CC989325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9D9F8-26BC-4807-BFC7-518C4C4282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C7B28-372B-4312-8C57-E80C0C4C67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audio" Target="file:///tmp/home/.config/libreoffice/4/user/gallery/oh_yeah.wav" TargetMode="External"/><Relationship Id="rId3" Type="http://schemas.microsoft.com/office/2007/relationships/media" Target="file:///tmp/home/.config/libreoffice/4/user/gallery/oh_yeah.wav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file:///tmp/home/.config/libreoffice/4/user/gallery/SN00047A.wav" TargetMode="External"/><Relationship Id="rId3" Type="http://schemas.microsoft.com/office/2007/relationships/media" Target="file:///tmp/home/.config/libreoffice/4/user/gallery/SN00047A.wav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this_is_the_end_x.wav" TargetMode="External"/><Relationship Id="rId2" Type="http://schemas.microsoft.com/office/2007/relationships/media" Target="file:///tmp/home/.config/libreoffice/4/user/gallery/this_is_the_end_x.wav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oh_yeah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audio" Target="../media/this_is_the_end_x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2"/>
          <p:cNvSpPr txBox="1"/>
          <p:nvPr/>
        </p:nvSpPr>
        <p:spPr>
          <a:xfrm>
            <a:off x="1600200" y="533520"/>
            <a:ext cx="65530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It's A Mystery!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91" name="Picture 3" descr="C:\images and sounds\people\detectiv2.gif"/>
          <p:cNvPicPr/>
          <p:nvPr/>
        </p:nvPicPr>
        <p:blipFill>
          <a:blip r:embed="rId3"/>
          <a:stretch/>
        </p:blipFill>
        <p:spPr>
          <a:xfrm>
            <a:off x="3048120" y="327672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"/>
          <p:cNvSpPr/>
          <p:nvPr/>
        </p:nvSpPr>
        <p:spPr>
          <a:xfrm>
            <a:off x="2057400" y="2666880"/>
            <a:ext cx="52578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663300"/>
                </a:solidFill>
                <a:uFillTx/>
                <a:latin typeface="Times New Roman"/>
              </a:rPr>
              <a:t>Drawing Conclusio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1143000" y="1600200"/>
            <a:ext cx="7315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When you draw a conclusion you        use 2 thing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2209680" y="289548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ahoma"/>
              </a:rPr>
              <a:t>What you know in your 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4191120" y="35053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ahoma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2133720" y="4267080"/>
            <a:ext cx="57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ahoma"/>
              </a:rPr>
              <a:t>What you’ve read in the story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1219320" y="5181480"/>
            <a:ext cx="72388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Comic Sans MS"/>
              </a:rPr>
              <a:t>A conclusion is the decision you come to when you put these two together.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WordArt 7"/>
          <p:cNvSpPr txBox="1"/>
          <p:nvPr/>
        </p:nvSpPr>
        <p:spPr>
          <a:xfrm>
            <a:off x="1219320" y="533520"/>
            <a:ext cx="67816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Drawing Conclusions: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9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3"/>
          <p:cNvSpPr/>
          <p:nvPr/>
        </p:nvSpPr>
        <p:spPr>
          <a:xfrm>
            <a:off x="-838080" y="1905120"/>
            <a:ext cx="8153280" cy="35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I sleep in a cri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I drink from a bott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I cannot walk or tal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Who am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4952880" y="198108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I know babies sleep in crib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5105520" y="266688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I know babies drink bott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5181480" y="3505320"/>
            <a:ext cx="358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I know babies can’t do these things y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4495680" y="495288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Must be a baby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8" descr="C:\Documents and Settings\Melissa  Caro\Application Data\Microsoft\Media Catalog\Downloaded Clips\cl92\j0365298.gif"/>
          <p:cNvPicPr/>
          <p:nvPr/>
        </p:nvPicPr>
        <p:blipFill>
          <a:blip r:embed="rId1"/>
          <a:stretch/>
        </p:blipFill>
        <p:spPr>
          <a:xfrm>
            <a:off x="6172200" y="4038480"/>
            <a:ext cx="2438280" cy="2438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571500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6" name="WordArt 10"/>
          <p:cNvSpPr txBox="1"/>
          <p:nvPr/>
        </p:nvSpPr>
        <p:spPr>
          <a:xfrm>
            <a:off x="1447920" y="457200"/>
            <a:ext cx="41907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For Example: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8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6" dur="1996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5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838080" y="1676520"/>
            <a:ext cx="5410440" cy="37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Put me on your f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I will keep you         warm and d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Wear me when it rain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4952880" y="2133720"/>
            <a:ext cx="37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I know you wear socks and shoes on your fe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4876920" y="3048120"/>
            <a:ext cx="3733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Both of these keep you warm, but only shoes keep you d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1143000" y="4572000"/>
            <a:ext cx="464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What do you wear, on your     feet, when it rai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WordArt 7"/>
          <p:cNvSpPr txBox="1"/>
          <p:nvPr/>
        </p:nvSpPr>
        <p:spPr>
          <a:xfrm>
            <a:off x="1219320" y="5257800"/>
            <a:ext cx="40384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516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Impact"/>
              </a:rPr>
              <a:t>rainboots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2" name="Picture 8" descr="C:\Documents and Settings\Melissa  Caro\Application Data\Microsoft\Media Catalog\Downloaded Clips\cl0\AG00501_.gif"/>
          <p:cNvPicPr/>
          <p:nvPr/>
        </p:nvPicPr>
        <p:blipFill>
          <a:blip r:embed="rId1"/>
          <a:stretch/>
        </p:blipFill>
        <p:spPr>
          <a:xfrm>
            <a:off x="5486400" y="3505320"/>
            <a:ext cx="3352680" cy="3022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548640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4" name="WordArt 10"/>
          <p:cNvSpPr txBox="1"/>
          <p:nvPr/>
        </p:nvSpPr>
        <p:spPr>
          <a:xfrm>
            <a:off x="1828800" y="457200"/>
            <a:ext cx="61722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Let's Try Again!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6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9" dur="5534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3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762120" y="1981080"/>
            <a:ext cx="81532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You need me before you can mail a letter. Paste me on an envelo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What am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WordArt 3"/>
          <p:cNvSpPr txBox="1"/>
          <p:nvPr/>
        </p:nvSpPr>
        <p:spPr>
          <a:xfrm>
            <a:off x="1828800" y="457200"/>
            <a:ext cx="6172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Your Turn!!!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1219320" y="4876920"/>
            <a:ext cx="70866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99"/>
                </a:solidFill>
                <a:latin typeface="Comic Sans MS"/>
              </a:rPr>
              <a:t>What did you know in your hea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 rot="20840400">
            <a:off x="1066680" y="3276360"/>
            <a:ext cx="2667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You need a postman, an envelope, and a stamp to mail a letter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6"/>
          <p:cNvSpPr/>
          <p:nvPr/>
        </p:nvSpPr>
        <p:spPr>
          <a:xfrm rot="6600">
            <a:off x="6095880" y="3276360"/>
            <a:ext cx="2514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Only one of these would be pasted onto an envelop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7" descr="C:\Documents and Settings\Melissa  Caro\Application Data\Microsoft\Media Catalog\Downloaded Clips\cl0\bs00737_.wmf"/>
          <p:cNvPicPr/>
          <p:nvPr/>
        </p:nvPicPr>
        <p:blipFill>
          <a:blip r:embed="rId1"/>
          <a:stretch/>
        </p:blipFill>
        <p:spPr>
          <a:xfrm>
            <a:off x="4191120" y="3733920"/>
            <a:ext cx="137160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9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2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447920" y="1676520"/>
            <a:ext cx="6553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I am white.  You need me every day.  You drink me when you are thirsty.  I can make a moustach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What am I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WordArt 3"/>
          <p:cNvSpPr txBox="1"/>
          <p:nvPr/>
        </p:nvSpPr>
        <p:spPr>
          <a:xfrm>
            <a:off x="1828800" y="457200"/>
            <a:ext cx="6172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And Again!!!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1219320" y="4876920"/>
            <a:ext cx="70866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99"/>
                </a:solidFill>
                <a:latin typeface="Comic Sans MS"/>
              </a:rPr>
              <a:t>What did you know in your hea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534520" y="6248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8"/>
          <p:cNvSpPr/>
          <p:nvPr/>
        </p:nvSpPr>
        <p:spPr>
          <a:xfrm>
            <a:off x="1066680" y="304812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Lots of things are whit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6248520" y="3048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You need a lot of thing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1143000" y="396252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What is white and you drink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5029200" y="4114800"/>
            <a:ext cx="37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AND, It makes a moustach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WordArt 12"/>
          <p:cNvSpPr txBox="1"/>
          <p:nvPr/>
        </p:nvSpPr>
        <p:spPr>
          <a:xfrm>
            <a:off x="2362320" y="1905120"/>
            <a:ext cx="510516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I know!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130" name="Picture 6" descr="http://www.thisevilempire.com/photos/jonahmilkm.jpg"/>
          <p:cNvPicPr/>
          <p:nvPr/>
        </p:nvPicPr>
        <p:blipFill>
          <a:blip r:embed="rId4"/>
          <a:stretch/>
        </p:blipFill>
        <p:spPr>
          <a:xfrm>
            <a:off x="5495760" y="4267080"/>
            <a:ext cx="244476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8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7" dur="1950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24"/>
                </p:tgtEl>
              </p:cMediaNode>
            </p:audio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609480" y="1752480"/>
            <a:ext cx="8153640" cy="26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ahoma"/>
              </a:rPr>
              <a:t>I look like a baby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ahoma"/>
              </a:rPr>
              <a:t>You can give me a name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ahoma"/>
              </a:rPr>
              <a:t>Children like to play with m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ahoma"/>
              </a:rPr>
              <a:t>What am I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WordArt 3"/>
          <p:cNvSpPr txBox="1"/>
          <p:nvPr/>
        </p:nvSpPr>
        <p:spPr>
          <a:xfrm>
            <a:off x="1828800" y="457200"/>
            <a:ext cx="6172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You are AWESOME!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143000" y="4876920"/>
            <a:ext cx="70866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99"/>
                </a:solidFill>
                <a:latin typeface="Comic Sans MS"/>
              </a:rPr>
              <a:t>What did you know in your hea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914400" y="175248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What looks like a bab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6400800" y="190512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Dolls?  Pictures? Hmm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990720" y="3886200"/>
            <a:ext cx="259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You can name dolls, not pictu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6400800" y="3657600"/>
            <a:ext cx="213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Children play with dolls, not pictu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WordArt 9"/>
          <p:cNvSpPr txBox="1"/>
          <p:nvPr/>
        </p:nvSpPr>
        <p:spPr>
          <a:xfrm>
            <a:off x="2362320" y="1905120"/>
            <a:ext cx="510516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I know!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139" name="Picture 10" descr="C:\Documents and Settings\Melissa  Caro\Application Data\Microsoft\Media Catalog\Downloaded Clips\cl46\j0175479.jpg"/>
          <p:cNvPicPr/>
          <p:nvPr/>
        </p:nvPicPr>
        <p:blipFill>
          <a:blip r:embed="rId1"/>
          <a:stretch/>
        </p:blipFill>
        <p:spPr>
          <a:xfrm>
            <a:off x="3048120" y="1447920"/>
            <a:ext cx="3360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oh_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990720" y="1600200"/>
            <a:ext cx="7391160" cy="21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ahoma"/>
              </a:rPr>
              <a:t>I grow on an ear.  Cook me in hot oil.  I will puff up and taste good.  Some people microwave me.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000" spc="-1" strike="noStrike">
                <a:solidFill>
                  <a:srgbClr val="000099"/>
                </a:solidFill>
                <a:latin typeface="Tahoma"/>
              </a:rPr>
              <a:t>What am I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143000" y="4876920"/>
            <a:ext cx="70866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99"/>
                </a:solidFill>
                <a:latin typeface="Comic Sans MS"/>
              </a:rPr>
              <a:t>What did you know in your hea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WordArt 4"/>
          <p:cNvSpPr txBox="1"/>
          <p:nvPr/>
        </p:nvSpPr>
        <p:spPr>
          <a:xfrm>
            <a:off x="1828800" y="457200"/>
            <a:ext cx="6172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Last Time!!!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914400" y="3048120"/>
            <a:ext cx="2590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What grows on an ear?  Ear wax?  Earrings?  Corn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6400800" y="32004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You wouldn’t cook or taste ear wax or earring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2133720" y="4267080"/>
            <a:ext cx="510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I know corn will puff up and it is sometimes cooked in the microwave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WordArt 8"/>
          <p:cNvSpPr txBox="1"/>
          <p:nvPr/>
        </p:nvSpPr>
        <p:spPr>
          <a:xfrm>
            <a:off x="2362320" y="1905120"/>
            <a:ext cx="510516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I know!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147" name="Picture 10" descr="C:\Documents and Settings\Melissa  Caro\Application Data\Microsoft\Media Catalog\Downloaded Clips\cl64\j0250766.wmf"/>
          <p:cNvPicPr/>
          <p:nvPr/>
        </p:nvPicPr>
        <p:blipFill>
          <a:blip r:embed="rId1"/>
          <a:stretch/>
        </p:blipFill>
        <p:spPr>
          <a:xfrm>
            <a:off x="2286000" y="838080"/>
            <a:ext cx="5146560" cy="60199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" descr=""/>
          <p:cNvPicPr/>
          <p:nvPr/>
        </p:nvPicPr>
        <p:blipFill>
          <a:blip r:embed="rId2"/>
          <a:stretch/>
        </p:blipFill>
        <p:spPr>
          <a:xfrm>
            <a:off x="6934320" y="6172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2" descr=""/>
          <p:cNvPicPr/>
          <p:nvPr/>
        </p:nvPicPr>
        <p:blipFill>
          <a:blip r:embed="rId3"/>
          <a:stretch/>
        </p:blipFill>
        <p:spPr>
          <a:xfrm>
            <a:off x="66294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1" dur="408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408"/>
                            </p:stCondLst>
                            <p:childTnLst>
                              <p:par>
                                <p:cTn id="4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4" dur="408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C:\Documents and Settings\Melissa  Caro\Application Data\Microsoft\Media Catalog\Downloaded Clips\cl3e\j0156953.wmf"/>
          <p:cNvPicPr/>
          <p:nvPr/>
        </p:nvPicPr>
        <p:blipFill>
          <a:blip r:embed="rId1"/>
          <a:stretch/>
        </p:blipFill>
        <p:spPr>
          <a:xfrm>
            <a:off x="1523880" y="1219320"/>
            <a:ext cx="6553440" cy="43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his_is_the_end_x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02:44:37Z</dcterms:created>
  <dc:creator>Melissa Caro</dc:creator>
  <dc:description/>
  <dc:language>en-US</dc:language>
  <cp:lastModifiedBy>teacher</cp:lastModifiedBy>
  <dcterms:modified xsi:type="dcterms:W3CDTF">2011-10-19T18:45:48Z</dcterms:modified>
  <cp:revision>21</cp:revision>
  <dc:subject/>
  <dc:title>PowerPoint Presentation</dc:title>
</cp:coreProperties>
</file>